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1D2-0A45-4052-8FA5-7136980B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A93-754F-43AB-B3C8-6891E8BE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C54-0708-45B9-BC69-901057DC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C51-089A-4759-B60F-465555A9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3A4-DF66-460E-AEAD-B7D8B3B8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6C9-CD11-4E59-9025-4A3CEFDE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D14-2CFD-4545-86BD-AB0F5553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811-287B-4EC2-B9E5-2A683115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578-DA11-4BB2-B880-D5AE4D29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18E-9B07-4906-84D7-0C7B0590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5FA-5F49-493C-92B6-DDB0A14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BE9-510E-48D6-81DC-1C7CF099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E7A3-E1BA-4E75-B4F3-ABE55B8FB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RlY0pZhtao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Nonfiction in K-2 Classroo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1828800" cy="1541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429000" y="2590920"/>
            <a:ext cx="3581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1828800" cy="1562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1680" y="1981080"/>
            <a:ext cx="1676520" cy="147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3124080" y="411480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731520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6"/>
          <a:stretch/>
        </p:blipFill>
        <p:spPr>
          <a:xfrm>
            <a:off x="990720" y="4648320"/>
            <a:ext cx="1495440" cy="167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7"/>
          <a:stretch/>
        </p:blipFill>
        <p:spPr>
          <a:xfrm>
            <a:off x="5334120" y="4114800"/>
            <a:ext cx="140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Implement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tart small… what are two strategies you can implement today in your classroo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ollaborate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Keep it simple.  You can always build on a concept for the next time arou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What is Nonfi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en a person hears nonfiction they most likely think of a text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However, nonfiction is prose writing based on f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3913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Why is Nonfiction Import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ddresses student’s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Naturally curious about the world arou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creases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xpands vocabulary and knowledge on topics through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repares students for later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eaches how to read information, pull out the main idea and supporting detai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Start at an Early 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Exposing students to nonf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literature in preschool and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rimary grades will benefit them in their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The video below will discuss some important steps to remember when choosing nonfiction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youtube.com/watch?v=eRlY0pZhta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Strategies For Classroom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Implementing something new in the classroom usually leads to obsta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im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ree models for teaching nonfiction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eacher direct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caffold student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Independent student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518328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Activities for Classroom 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Kindergarten Activiti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KWL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ad Alou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cholastic, Weekly Reader, Mailbox, Discov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ader's 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Vocabular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Main idea, details, determining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First and Second Grade Activiti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Graphic Organ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3-2-1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Cloz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Idea circles--peer led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Quick w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trategies for Reading On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Activities for Classroom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14800" y="2209680"/>
            <a:ext cx="4648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Learning Logs- Are used as a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activity and can be a form of communication between the student and teacher. These notebooks record information on a specific topic and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on going throughout the school yea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5800" y="106668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Podcasts- Can be used to learn information on a topic.  Students can gain exposure to technology through the creation of their own podcasts on different top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57200" y="4038480"/>
            <a:ext cx="38862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Text Features- Are features in a nonfiction book that provide extra details to the reader.  Text features treasure hunts provide students a fun way to recognize text features in a variety of nonfiction boo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Time to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e are going to read a nonfiction story alou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s we read _____________ think about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You will respond to them in a learning log form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Learning L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y did the author write th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did you know befor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How can you connect this to you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was one new thing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questions do you still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715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23:16:32Z</dcterms:created>
  <dc:creator> </dc:creator>
  <dc:description/>
  <dc:language>en-US</dc:language>
  <cp:lastModifiedBy> </cp:lastModifiedBy>
  <dcterms:modified xsi:type="dcterms:W3CDTF">2011-12-05T02:33:33Z</dcterms:modified>
  <cp:revision>20</cp:revision>
  <dc:subject/>
  <dc:title>Slide 1</dc:title>
</cp:coreProperties>
</file>